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46E-F37C-4ACC-81F8-16EEF5CDC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7EA6-8AEE-493C-AAA0-01108B5D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02B-8315-4F43-B495-8C9D620B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2DF7-E570-42C2-8E4C-DA100A41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CA4-D63B-4B23-94F0-38DC089D2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B8B3-12D4-439E-95A8-9CA9A56B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4641-3FD8-4FC6-BFE0-37C4AA9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64BD-32C9-4007-A636-03F0ED3D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87D2-9471-45E1-AF7A-669E4DF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FC24-75FB-4120-813E-DD100E0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C97-0E51-4488-9FFB-1CD63F2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6A6-372C-4BAD-AA6F-E963AC5D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3F75-AF7C-4313-83B1-BBF1C54C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A24BE-BAF5-4B39-B56B-CDB0D07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4686-A5DF-41F0-B003-2A05690C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79B2-A791-4C72-844E-D0430582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6BCA-3E26-4773-9FC9-3C918BF23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8A9-0C1C-4CE1-B329-B01A6467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AC4-0929-4F7A-8355-98ABBD8D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1D19-09AF-4636-B608-EE9C4170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7C1-096B-4D46-BD1C-C44D9272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2574-8774-4A18-BC84-FAB42BC5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331-06FE-454F-8B8D-077A5460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405-530C-4A30-9E84-4B367D89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351F-83D7-475B-80A9-FAF7A3F82CD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F7A4-A802-4375-8959-F36E297C08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160" y="2130120"/>
            <a:ext cx="910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oftware Desig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apter und Single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238A-B87E-4D98-B3C5-E223FB8D912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 (Wrapp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passung der Schnittstelle eines vorgegebe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jekts (Adaptee) auf eine gewünschte Schnittstelle 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öglicht die Zusammenarbeit inkompatibler K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wei Varianten: objektbasiert und klassenba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F68-E785-4929-A834-AFD440ED2C9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objektbasi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4141" t="10652" r="6789" b="14858"/>
          <a:stretch/>
        </p:blipFill>
        <p:spPr>
          <a:xfrm>
            <a:off x="142920" y="1909800"/>
            <a:ext cx="889308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3A2-2278-477F-AC0A-4B16DBB198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objektbasi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Class Adapter implements Target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Adaptee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void Reques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a.spReque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ter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lienten rufen Operationen von Adapterobjekten au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pterobjekt leitet Anfrage an Objekt von Adaptee-Klasse we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504-D5E0-4999-9CFB-9005097FC0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klassenbasi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169" t="10667" r="6810" b="14934"/>
          <a:stretch/>
        </p:blipFill>
        <p:spPr>
          <a:xfrm>
            <a:off x="177840" y="1916280"/>
            <a:ext cx="8888400" cy="33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3851280" y="3500280"/>
            <a:ext cx="289080" cy="289080"/>
          </a:xfrm>
          <a:prstGeom prst="flowChartExtra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75440" y="3284640"/>
            <a:ext cx="288720" cy="287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65480" y="3471840"/>
            <a:ext cx="289080" cy="28728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50400" y="3778200"/>
            <a:ext cx="2076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imp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n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84720" y="4076640"/>
            <a:ext cx="1079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29480" y="2244600"/>
            <a:ext cx="21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29480" y="2416320"/>
            <a:ext cx="21564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4687920"/>
            <a:ext cx="21891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cificReque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4508640"/>
            <a:ext cx="1224000" cy="649080"/>
          </a:xfrm>
          <a:prstGeom prst="flowChartProcess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12000" y="4614840"/>
            <a:ext cx="21600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823160" y="4625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23160" y="4770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28000" y="4775040"/>
            <a:ext cx="0" cy="320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54760" y="5106960"/>
            <a:ext cx="290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69160" y="20239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42E7-B9E6-4994-AD4F-ACDE538E50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klassenbasi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Class Adapter implements Target extends Adaptee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void Request(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spReque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void spRequest(){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  // optional überschrei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hrfachvererb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m Adapter sind die Methoden der Zielklasse und der adaptierten Klasse bekan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e spezifische Operation der adaptierten Klasse wird im Rumpf der jeweiligen Methode der Zielklasse aufgeru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876-0CAD-472D-AAEC-76410F8551C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Implement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95280" y="1413000"/>
          <a:ext cx="8497800" cy="4792680"/>
        </p:xfrm>
        <a:graphic>
          <a:graphicData uri="http://schemas.openxmlformats.org/drawingml/2006/table">
            <a:tbl>
              <a:tblPr/>
              <a:tblGrid>
                <a:gridCol w="3960720"/>
                <a:gridCol w="453708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nbasi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basie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class Adapter implements Target </a:t>
                      </a: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extends Adapter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    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void Request()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spRequest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 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void spRequest(){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  …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Class Adapter implements Target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    </a:t>
                      </a:r>
                      <a:r>
                        <a:rPr b="1" lang="de-DE" sz="1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Adaptee a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void Request()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a.spRequest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	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    </a:t>
                      </a: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33cc"/>
                          </a:solidFill>
                          <a:latin typeface="Courier New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über Mehrfachvererbung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er-Methode kann optional</a:t>
                      </a:r>
                      <a:br>
                        <a:rPr sz="2000"/>
                      </a:b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überschrieben we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ruf über Objekt von Adapt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611280" y="2205000"/>
            <a:ext cx="720720" cy="360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8F2F-EB8D-4825-9284-1CCA81DDAC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apter: 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Verwendung einer bestehenden Klasse, deren Interface nicht dem benötigten entspr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e wieder verwendbare Klasse soll erzeugt werden, die mit unverwandten oder unvorhergesehenen Klassen zusammenarbeiten s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ndte Muster: Brücke und Dekori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BAD-4963-4E97-A19F-EF01EF62A39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as war´s, dank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11B7-B49F-4EE4-88C7-DFF1ACB071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480" y="269640"/>
            <a:ext cx="90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as ist ein Design Patte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schreibt eine Familie von Lösungen für ei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oftware-Entwurfsproblem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dentifiziert, erklärt und bewertet einen wichtig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-Aspekt in objekt-orientierten 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ein Weg zur Verpackung und Wiederverwendung von W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155-3D5B-4896-8E80-9A576D0490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as sind keine Design Patter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esign Patterns sind abstrakte Strukturen die häufig Teil eines Design sind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ind weniger abstrakt als Patterns, beschreiben größere Architektur-Elemente,</a:t>
            </a:r>
            <a:br>
              <a:rPr sz="1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sind spezialisiert auf bestimmte Domän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ue Implementierungskonzepte</a:t>
            </a:r>
            <a:br>
              <a:rPr sz="2400"/>
            </a:br>
            <a:r>
              <a:rPr b="0" i="1" lang="de-DE" sz="1400" spc="-1" strike="noStrike">
                <a:solidFill>
                  <a:srgbClr val="000000"/>
                </a:solidFill>
                <a:latin typeface="Arial"/>
              </a:rPr>
              <a:t>Design Patterns erlauben nichts was vorher verboten 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53C-37EB-4461-B4D3-3B9092175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Klassifiz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reational pattern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  <a:ea typeface="Arial"/>
              </a:rPr>
              <a:t>Objektgener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uctural pattern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omposition von Klassen/Objek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havioral pattern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antwortlichkeiten Klassen/Objek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920" y="4317840"/>
            <a:ext cx="741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usätzlich wird der Klassifizierungsbereich nochmal in klassenbasie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objektbasierte Patterns unterte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lassenbasierte Muster erreichen Ihre Ziele durch Unterklassenbildu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Vererbung, während objektbasierte Muster Delegation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jektkomposition verwe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709-49A4-4FCF-B85F-FBD9D70D7F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417600"/>
          <a:ext cx="8569080" cy="5532480"/>
        </p:xfrm>
        <a:graphic>
          <a:graphicData uri="http://schemas.openxmlformats.org/drawingml/2006/table">
            <a:tbl>
              <a:tblPr/>
              <a:tblGrid>
                <a:gridCol w="1439640"/>
                <a:gridCol w="2087640"/>
                <a:gridCol w="2233440"/>
                <a:gridCol w="280836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e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havi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dapter (cla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pr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late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tract Fac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ingle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dapter (objec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o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w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x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in of Responsi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r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506-A214-4929-A2C5-2D1C87A9FE6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ingle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ellt sicher, dass ein Objekt in dem System nur einmal vorkommen d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griff nur über Klassen-Meth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arantiert Existenz genau einer Instan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hne globale Variablen zu verw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anz kann durch Ableitung verfein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: beliebige aber feste Anzahl von Insta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830-1CAE-4291-8E56-7BF60B498B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ingleton: Strukurdiagram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03160" y="2276640"/>
          <a:ext cx="3264120" cy="2376360"/>
        </p:xfrm>
        <a:graphic>
          <a:graphicData uri="http://schemas.openxmlformats.org/drawingml/2006/table">
            <a:tbl>
              <a:tblPr/>
              <a:tblGrid>
                <a:gridCol w="32641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tatic singleIn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static createInstanc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Singleton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 flipV="1">
            <a:off x="3851280" y="3068280"/>
            <a:ext cx="1728720" cy="86508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64200" y="22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04280" y="2960640"/>
            <a:ext cx="25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turn single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80000" y="28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604360" y="2997360"/>
            <a:ext cx="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79640" y="35002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579640" y="2852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8360" y="2852640"/>
            <a:ext cx="21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388360" y="2852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836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0240" y="5084640"/>
            <a:ext cx="416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8080"/>
                </a:solidFill>
                <a:latin typeface="Arial"/>
              </a:rPr>
              <a:t>Objektbasiertes Erzeugungsm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7040-81D0-45EF-B97F-11042411EA1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ingleton: Implementier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public class Singlet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private static Singleton singleInstance = nul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protected Singleto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System.out.println(“Erzeuge neue Instanz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public static synchronized Singleton createInstanc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if (singleInstance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singleInstance = new Singlet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return singleInsta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	</a:t>
            </a: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CDE-67E4-49EE-B9BF-1A6F9ACDD9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320" y="269640"/>
            <a:ext cx="912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ingleton: Verwen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java.awt.Tool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ubklassen sind Implementierungen von AW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unterschiedlichen Plattf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olkit.getDefaultToolkit() gibt passendes Exemplar zurü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wandte 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inige Muster werden als Singleton implementi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spiele: Abstract Factory, Prototype und Bui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ris Vlad-Heideck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C34-0A5D-40E7-854D-D9B82FB7EE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3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1:00:55Z</dcterms:created>
  <dc:creator>HOME</dc:creator>
  <dc:description/>
  <dc:language>en-US</dc:language>
  <cp:lastModifiedBy>HOME</cp:lastModifiedBy>
  <dcterms:modified xsi:type="dcterms:W3CDTF">2004-08-09T11:54:36Z</dcterms:modified>
  <cp:revision>12</cp:revision>
  <dc:subject/>
  <dc:title>Software Design Patter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